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953017"/>
        <c:axId val="86543471"/>
      </c:barChart>
      <c:catAx>
        <c:axId val="149530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543471"/>
        <c:crosses val="autoZero"/>
        <c:auto val="1"/>
        <c:lblAlgn val="ctr"/>
        <c:lblOffset val="100"/>
        <c:noMultiLvlLbl val="0"/>
      </c:catAx>
      <c:valAx>
        <c:axId val="865434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9530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7630-8DF1-4AB2-A05D-B4A8436B0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753F-F9D8-412E-B015-6C899FDA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D9E2-6273-49CB-91FF-DA821980E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A2BC-9318-4082-988F-34B55E138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0E5C-D903-4F9F-A610-72810BC1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ED6A-39C6-4A29-A1C2-3095C04E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760F-6E12-465B-8560-F6AA3DEC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E6C6-9B0F-4D27-AF24-48F98D49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093E-C37B-4A0F-9FB0-7B88704F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5735-7207-4B3D-B3FA-5E9EB86A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8178-CEF9-42F9-A745-45DC9486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8E3A-6E74-45F1-B639-BA74E149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80E61E-649F-46CA-A0C6-5AE835E08C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