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71742"/>
        <c:axId val="20965705"/>
      </c:barChart>
      <c:catAx>
        <c:axId val="91171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65705"/>
        <c:crosses val="autoZero"/>
        <c:auto val="1"/>
        <c:lblAlgn val="ctr"/>
        <c:lblOffset val="100"/>
        <c:noMultiLvlLbl val="0"/>
      </c:catAx>
      <c:valAx>
        <c:axId val="20965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1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845-30A3-4E67-B9AD-69C5DDF8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14C-B5ED-4209-BFAD-C08CFB2A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CEB-0B22-490F-B732-702410B6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D63-E459-40FE-BF88-EC64533A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5EE-D1A8-4D23-83CD-88F0661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B98-9A98-4268-9BE1-A3BEFFAE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9ED-D356-460B-9F12-F88DB95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5FB-A245-4AF2-A89F-255B2FCC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814-611B-4B81-919E-DC5F3D09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088-02C8-42AD-AE7A-84936DE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126-7D8F-4D3A-978E-A19C544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A42-0F24-465B-BDE7-3BB90B4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4824-D016-44D7-B6D6-8F209F484A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