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476275"/>
        <c:axId val="48746267"/>
      </c:barChart>
      <c:catAx>
        <c:axId val="33476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46267"/>
        <c:crosses val="autoZero"/>
        <c:auto val="1"/>
        <c:lblAlgn val="ctr"/>
        <c:lblOffset val="100"/>
        <c:noMultiLvlLbl val="0"/>
      </c:catAx>
      <c:valAx>
        <c:axId val="487462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76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7321-02AF-45FB-8529-8C20F9D2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772A-CFAC-4E7E-857A-AFEC69DB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79DE-DB69-44A7-9E8D-7F5A407D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EEA8-0494-45E9-946D-2C2D711A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7FFA-74D9-42F0-A2BD-8CE5C9B0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ABA6-5F7B-4092-83C4-17E08F59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608E-BD0C-430A-8614-2619236C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C8BF-F5E4-4F19-B6CB-80DAE8A1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132-50E0-421F-B2FC-CA836339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BD7-D250-472E-A590-55F52655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FA43-9D93-4296-A867-B24BF9C2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0C8F-1BE2-4EAF-8305-EF8B6CE6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22604-E36D-44ED-92A9-1E419010BC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