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15825"/>
        <c:axId val="27855799"/>
      </c:barChart>
      <c:catAx>
        <c:axId val="81615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5799"/>
        <c:crosses val="autoZero"/>
        <c:auto val="1"/>
        <c:lblAlgn val="ctr"/>
        <c:lblOffset val="100"/>
        <c:noMultiLvlLbl val="0"/>
      </c:catAx>
      <c:valAx>
        <c:axId val="27855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5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107-5427-495A-810A-680DF514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7B0-58CB-486A-9C59-8288C208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7A4-F370-4383-9805-430E05C6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546-BAA8-4BA6-9B37-91043D46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EB9-BFC0-40AC-AFBA-8A352DF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6DA-7C3D-43FF-A94A-701EB2A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59A-AB2C-4183-81F6-FEF3DAE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A02-8804-4C66-A3B8-0F6E660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97B-B8AC-4EC1-A3B2-1398999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CA3-82EF-4D5E-97A8-CBAE529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A3E-2579-4A0E-9EDA-5B54993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6D6-512A-4069-B4A1-98DC588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98E65-E6C7-4E92-8DB5-EECA0032B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