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14263"/>
        <c:axId val="90036280"/>
      </c:barChart>
      <c:catAx>
        <c:axId val="51014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36280"/>
        <c:crosses val="autoZero"/>
        <c:auto val="1"/>
        <c:lblAlgn val="ctr"/>
        <c:lblOffset val="100"/>
        <c:noMultiLvlLbl val="0"/>
      </c:catAx>
      <c:valAx>
        <c:axId val="90036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4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481-52DA-4701-AC16-2BE427F8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849-7A28-4BDF-9451-6EE6C4A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D5B-4340-4BD5-9403-08F22CFA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A08-AAFF-47C1-84AC-7820B891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90D-9E6F-4B48-8AC0-2B5E658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651-6498-44C7-A20C-EE70D21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01D-9096-41B8-AD56-1232B2F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E00-9064-48F6-B34C-4F57ED5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CEA-0C48-4AAC-9631-ADF81D7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B15-124F-4A66-B225-B22C567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3D6-D920-45B4-AAD0-B743E49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E3C-68EC-44EF-9823-511DDE32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1DD8B-B04C-4940-BA66-50281EDE01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