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27999"/>
        <c:axId val="34934070"/>
      </c:barChart>
      <c:catAx>
        <c:axId val="19527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34070"/>
        <c:crosses val="autoZero"/>
        <c:auto val="1"/>
        <c:lblAlgn val="ctr"/>
        <c:lblOffset val="100"/>
        <c:noMultiLvlLbl val="0"/>
      </c:catAx>
      <c:valAx>
        <c:axId val="34934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7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0D3-9F8B-4822-B348-FB467A07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186-C7A1-4078-9A94-7C0A7C3A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5F9-8D79-41B5-A119-9FFBA084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57E-67C9-416D-BB4D-C57ADBC3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DFC-6AF5-4BAC-9019-0C1F52B7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2C1-6469-4CF0-8168-7D0259C6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E72-00C7-4102-9196-045DD970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010-D0AB-4560-89DE-94603315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E36-8489-440D-9B34-CF915F33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2ED-3D87-4F85-A567-099E8935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06E-25EE-40C6-9D65-790CC67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B59-EC93-45C5-9901-52EC2B3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86943-30BA-440C-BCA4-E3D22D5B5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