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56122"/>
        <c:axId val="72483416"/>
      </c:barChart>
      <c:catAx>
        <c:axId val="36356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3416"/>
        <c:crosses val="autoZero"/>
        <c:auto val="1"/>
        <c:lblAlgn val="ctr"/>
        <c:lblOffset val="100"/>
        <c:noMultiLvlLbl val="0"/>
      </c:catAx>
      <c:valAx>
        <c:axId val="72483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6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FCD-0E45-42D5-96D7-6CB28BB7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205-1B52-4C8B-B664-0EA5D2D0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8AE-C24C-441E-935D-0EA6C2DA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D7A-E098-4C13-B20D-F7B2CCF4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068-DF30-4412-9D5A-96467CAB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7A0-4C72-466A-B74D-FE479D7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B9C-F952-4838-AC31-90B120CC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8A1-91C8-43C3-9598-4E18899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3A6-97AE-4B1F-BBED-A3F432B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359-5B3E-4908-AAE9-A340F55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6BD-06D2-4FFC-9D3A-9E6E8E1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631-0E78-4EAE-8391-F8590FF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E4C9A-BC13-409F-8AF9-F5FD68AF0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