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013462"/>
        <c:axId val="14276"/>
      </c:barChart>
      <c:catAx>
        <c:axId val="450134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276"/>
        <c:crosses val="autoZero"/>
        <c:auto val="1"/>
        <c:lblAlgn val="ctr"/>
        <c:lblOffset val="100"/>
        <c:noMultiLvlLbl val="0"/>
      </c:catAx>
      <c:valAx>
        <c:axId val="142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134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EB0E-9689-41CE-8E5B-458FA89E0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885B-D7E3-4E2F-B801-B1CFBB02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D9FC-FA6F-4AB8-8330-B99997372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5CBD-4B03-4441-86AD-FF2691D43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219A-942F-4408-BEE0-6E372FDC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3CCA-863C-41A5-BCE1-E9E80F55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37C6-416B-4EEB-AEA0-0EB6E1A5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060D-B1C0-49DA-B3DB-CA1EFF21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627E-60C3-42F1-982F-4C3A749F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94DE-B406-4827-A115-D5977EBC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28AE-0124-43C1-BF43-B1CF88E4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409B-A72D-4548-964A-F94E3E67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F8BCB-5E8C-482D-94DA-D1FF2D324A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