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466948"/>
        <c:axId val="14853791"/>
      </c:barChart>
      <c:catAx>
        <c:axId val="104669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53791"/>
        <c:crosses val="autoZero"/>
        <c:auto val="1"/>
        <c:lblAlgn val="ctr"/>
        <c:lblOffset val="100"/>
        <c:noMultiLvlLbl val="0"/>
      </c:catAx>
      <c:valAx>
        <c:axId val="14853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4669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8C46-E140-455D-8733-481B0328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D22F-8A8B-4648-8C26-E58142FDB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8DA8-9C51-4C9B-A6E9-389B830ED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E058-265D-4D68-A578-B8435F8C3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3427-2BD0-4CD7-98C0-90EDC93E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C6D6-40AB-4047-A462-5837029E8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0D6-9EEC-4AE4-AD28-5AB3AA48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F200-105B-4FDE-A762-DC8BFAF8A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B921-B706-4EEC-A825-004D4DF1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C37E-767B-4487-A949-874251B21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2CF-AAF4-4DA1-B8E9-2C68F773F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6DD8-C58C-4F9C-AB92-330D4F7C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CCC0E-52A8-4896-999A-50F1FDC8DE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