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947780"/>
        <c:axId val="69157479"/>
      </c:barChart>
      <c:catAx>
        <c:axId val="869477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157479"/>
        <c:crosses val="autoZero"/>
        <c:auto val="1"/>
        <c:lblAlgn val="ctr"/>
        <c:lblOffset val="100"/>
        <c:noMultiLvlLbl val="0"/>
      </c:catAx>
      <c:valAx>
        <c:axId val="691574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9477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57EE-3DDC-44F2-A5B3-F46255292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D84B-94AA-48AE-AEB1-67ABD75B0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ACBD-575A-4022-BE33-62EC277F4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D7AE1-96A3-4E06-BF67-CCD903B5D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1184-FB59-402C-9D02-405B6EF3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40F9-7872-47F0-B1B4-37316E58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DF2C-6328-4904-9808-19D0CAD90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30BF-27A6-4ED2-82B0-B5C55E31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EDBD-8EF1-46DA-9AF4-E0E0C69E9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8C80-6621-4C04-B149-4BB2071BC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D328-55E9-4976-BE5C-1980D5C08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5FB3-B987-4B0A-ACD3-F81DCF024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D2B40-16E5-428A-AC99-3AC345EFA3F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