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92311"/>
        <c:axId val="78699096"/>
      </c:barChart>
      <c:catAx>
        <c:axId val="71792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99096"/>
        <c:crosses val="autoZero"/>
        <c:auto val="1"/>
        <c:lblAlgn val="ctr"/>
        <c:lblOffset val="100"/>
        <c:noMultiLvlLbl val="0"/>
      </c:catAx>
      <c:valAx>
        <c:axId val="78699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92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2A7-9B94-4285-B073-A96F2A9F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405-9708-469C-A993-3A1CB6F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744-9189-45A4-85D8-06F8375E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5F5-C4A9-4ECB-A4C8-CAFADE9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7BC-759A-41D2-90C6-20A33BD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D64-48A5-4256-89DC-76F8B44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F6A-B7CA-47B4-A3CD-2CEA3D3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3BB-8DAB-4556-B011-B60A9C30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C06-93B9-407F-8813-0B7A005E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246-882D-4351-958C-8D0353F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46D-5624-45E5-9606-4B75A51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88F-438B-497B-B944-B8A4811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6B45A-32CD-4380-BA9A-D8FD46532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