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49435"/>
        <c:axId val="16544822"/>
      </c:barChart>
      <c:catAx>
        <c:axId val="86449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44822"/>
        <c:crosses val="autoZero"/>
        <c:auto val="1"/>
        <c:lblAlgn val="ctr"/>
        <c:lblOffset val="100"/>
        <c:noMultiLvlLbl val="0"/>
      </c:catAx>
      <c:valAx>
        <c:axId val="16544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49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73F-6513-4A7F-A06C-9ED4ABCE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DA8-68AC-453E-B9C4-A1718663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A57-293B-4A0A-862A-45B33AE5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197-401E-41B5-95EA-AEA9501A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54B-FFA0-4804-874F-4BEFCC8D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869-AB7E-421A-9345-AEC1D319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F77-EA9D-41AA-9F6A-C53F0994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F54-D820-46FC-91CC-0C097E1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91E-5BCD-4D21-B1E1-A240870F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0CE-681A-4FA0-9EFF-51AF9F8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5B6-41A7-41F6-BA77-ED776DF4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7BE-3E7D-486E-91C5-D10F255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A1B76-4F5A-4B4A-A3A0-F56CD7F3A5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