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16064"/>
        <c:axId val="77700147"/>
      </c:barChart>
      <c:catAx>
        <c:axId val="63616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0147"/>
        <c:crosses val="autoZero"/>
        <c:auto val="1"/>
        <c:lblAlgn val="ctr"/>
        <c:lblOffset val="100"/>
        <c:noMultiLvlLbl val="0"/>
      </c:catAx>
      <c:valAx>
        <c:axId val="77700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16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1EB-563F-4627-958D-4953D4B5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D51-EAA5-43E8-89F4-D42A29F3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AA3-28FC-4206-9580-65FABBC0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95B-1FE0-4DDE-ABB0-A4A2A38E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271-E965-428A-94DB-C861457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1DA-3D0F-4501-86DB-51E60260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261-FDF0-4F9B-A236-D3B805FD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D23-BB39-49E5-9E55-C3FC37C7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3DF-461C-4E1A-859B-A01FA30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636-E618-47F6-94EC-83D9776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70F-BBE2-4100-9174-D2D28EA1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5F1-A423-483E-8495-72B464B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9AD00-C975-426E-80E6-21F4C8436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