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26132"/>
        <c:axId val="45682535"/>
      </c:barChart>
      <c:catAx>
        <c:axId val="66526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82535"/>
        <c:crosses val="autoZero"/>
        <c:auto val="1"/>
        <c:lblAlgn val="ctr"/>
        <c:lblOffset val="100"/>
        <c:noMultiLvlLbl val="0"/>
      </c:catAx>
      <c:valAx>
        <c:axId val="45682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26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2C0-27DB-48D2-82AF-65286F76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2EF-33BC-4EA9-B452-C6AB62FC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F1C-D921-419F-ADFE-49F43074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F64-0AFF-459F-B3C4-DF724225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DE1-EB5B-4951-92A5-3EC129FB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00B-6C93-4ACD-8212-D045E51C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C6A-265D-415C-91B7-2C080296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69E-2709-4B24-945C-B8AB77AD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A0C-B27B-4F55-98E7-1F9CCDB1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661-770A-432D-827F-4B0537B4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4DD-8E35-4296-92CC-5D311B19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8A6-6415-4DA6-89BA-0DF09D23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D1BD4-C598-44E0-957D-D5A23B94D8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