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6546"/>
        <c:axId val="24666281"/>
      </c:barChart>
      <c:catAx>
        <c:axId val="7236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66281"/>
        <c:crosses val="autoZero"/>
        <c:auto val="1"/>
        <c:lblAlgn val="ctr"/>
        <c:lblOffset val="100"/>
        <c:noMultiLvlLbl val="0"/>
      </c:catAx>
      <c:valAx>
        <c:axId val="24666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6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494-8370-41D8-89BC-216777B8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98F-2858-4D21-B7DF-0E7B5BE9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EAC-3D50-490C-952D-AA925B2C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FAA-1686-48A6-9E58-858CE4C0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2A5-0D4D-401C-824C-8C22DAAD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A74-D05B-47F9-B198-E7BD3665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A55-9CD0-4D12-87F1-F1662EB3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252-704A-4219-A990-FB982C37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3DD-3B6E-4971-8D14-E1A82772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0C3-D687-436E-BD43-A26B531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D7F-D315-4CC4-BDF6-B48F761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990-0BFE-4B37-8D14-86501EA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67983-C12A-49FE-A0CE-4066A7EB9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