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91835"/>
        <c:axId val="35464665"/>
      </c:barChart>
      <c:catAx>
        <c:axId val="30291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4665"/>
        <c:crosses val="autoZero"/>
        <c:auto val="1"/>
        <c:lblAlgn val="ctr"/>
        <c:lblOffset val="100"/>
        <c:noMultiLvlLbl val="0"/>
      </c:catAx>
      <c:valAx>
        <c:axId val="35464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91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B9D-51E6-408B-9A0E-ADD571C9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2CC-0E07-4049-B97E-87F7F42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F9C-E21F-4646-ACAF-388B7CE1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5C4-783C-432E-96AA-6D24122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CC4-32AD-452F-928C-0720428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3DE-87C4-48FD-B2FC-3E4C54E3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0B2-4C4A-4BAC-B42F-79591FE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7CB-B116-4FB2-8AF8-BA344478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D57-90E9-45E6-9953-265A4259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EEC-58BF-4577-9A5A-CDF82A4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337-8D75-4E88-B0B6-2E2CD21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BEE-BF81-4FA5-94CA-5D002C7A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76BF-88A7-41A7-B301-186855619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