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92411"/>
        <c:axId val="18998607"/>
      </c:barChart>
      <c:catAx>
        <c:axId val="34692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98607"/>
        <c:crosses val="autoZero"/>
        <c:auto val="1"/>
        <c:lblAlgn val="ctr"/>
        <c:lblOffset val="100"/>
        <c:noMultiLvlLbl val="0"/>
      </c:catAx>
      <c:valAx>
        <c:axId val="18998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92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E3E-0427-4194-BF08-B782437F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C74-B4DB-4885-A5B2-67BE5A62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2F2-100C-412F-BEE4-06A75756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059-AC91-4E1B-8697-BDBDC27F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701-F193-40FC-AE41-60659C40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D43-1E76-42CB-AF2E-9DF7DF46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B7F-961D-4D87-B56B-D93EBEFA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A8B-9C29-4973-8FF5-87FF2416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489-3AC2-4340-9CA7-F3FED5A6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234-D3CD-411B-8D26-D145D890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35E-A7BA-44B7-9FEB-6A7D507C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135-242A-4544-BCE6-1359A97D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2815B-72F4-423A-82C9-2D215C864A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