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87952"/>
        <c:axId val="34799243"/>
      </c:barChart>
      <c:catAx>
        <c:axId val="76787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99243"/>
        <c:crosses val="autoZero"/>
        <c:auto val="1"/>
        <c:lblAlgn val="ctr"/>
        <c:lblOffset val="100"/>
        <c:noMultiLvlLbl val="0"/>
      </c:catAx>
      <c:valAx>
        <c:axId val="34799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87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B1B-E7C3-4E6D-AC15-762823AD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C0F-B9AB-424F-A0BB-78213796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466-E237-455D-B7DE-1215C82D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D21-DCB6-4BD8-9DA8-83468A73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B0C-414C-4C23-BCBE-FFEF95A0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EDB-AB60-4309-9CBE-BC0EC164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BD8-EF3A-4470-AA81-C536E65D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292-D925-41A6-A008-2362BFCF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8E9-C906-4A5C-98DE-A98EC97F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E2E-F20A-4D22-B757-BE17154F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B9D-219F-492D-AE9F-37CAAB8D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DE1-24A8-45A3-B717-6BD6990B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86526-22F9-4463-8DD3-649200B19B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