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53519"/>
        <c:axId val="88662783"/>
      </c:barChart>
      <c:catAx>
        <c:axId val="23353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62783"/>
        <c:crosses val="autoZero"/>
        <c:auto val="1"/>
        <c:lblAlgn val="ctr"/>
        <c:lblOffset val="100"/>
        <c:noMultiLvlLbl val="0"/>
      </c:catAx>
      <c:valAx>
        <c:axId val="88662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53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7EF-DFD6-4F0F-A301-A5E1B557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98A-7A1E-4203-A924-F73F9F4A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3B4-015E-4BAB-A65F-7256E059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034-26FC-46CD-94B3-3EC09A32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7DC-2794-445A-8169-865CAD6C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0B3-8ED0-4309-AB99-B047205E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C26-6D35-4E76-822D-375096EC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808-DB1B-4199-9A20-B0AD7C0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DC9-D2A8-4113-A19D-187E89E9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A0D-06E5-47BE-BA32-DBA3D163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DBB-839B-4A74-A271-893BBA35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12D-C73C-41F8-93EA-9A24A0C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77FDE-0C16-455F-9902-1EDDD97A00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