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64764"/>
        <c:axId val="62783602"/>
      </c:barChart>
      <c:catAx>
        <c:axId val="67064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83602"/>
        <c:crosses val="autoZero"/>
        <c:auto val="1"/>
        <c:lblAlgn val="ctr"/>
        <c:lblOffset val="100"/>
        <c:noMultiLvlLbl val="0"/>
      </c:catAx>
      <c:valAx>
        <c:axId val="62783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64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137-EE88-411E-BBC8-2716AF1A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A8B-D710-493C-B2D9-15D6384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329-2FC9-400E-8031-286F28EA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B30-D439-40D9-BF1C-BF1DED9F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9E5-6B77-4A73-B111-58833CCE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F4D-F40F-480E-B244-AFB68992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4F3-FAA1-4DE7-BA21-6D1379E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C8A-41B7-42E8-BA6D-EF03C6F9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CDB-9CBA-435D-8957-81FF6577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183-3131-4547-AF22-230E5DF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EFE-EAFC-4948-A334-8787D98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0AC-473D-43EF-9D3A-91D059D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0FC6-DB35-4C60-93E6-CD745F388C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