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29564"/>
        <c:axId val="48795054"/>
      </c:barChart>
      <c:catAx>
        <c:axId val="40629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5054"/>
        <c:crosses val="autoZero"/>
        <c:auto val="1"/>
        <c:lblAlgn val="ctr"/>
        <c:lblOffset val="100"/>
        <c:noMultiLvlLbl val="0"/>
      </c:catAx>
      <c:valAx>
        <c:axId val="48795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29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071-4933-43FA-990F-35389980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5FD-C322-4701-B8C7-FD591DA8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493-2A27-4185-A411-4F771D1A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139-236D-4E82-AD0D-68637BBB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53E-E39B-4821-976B-83CDBBFA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02E-AEE1-424C-9681-DFE0F1AC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B72-67C8-44AA-90F5-1FFD6193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3D5-0711-433C-82A7-D8149FB0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57C-95A5-4D90-BC15-28D846C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BA7-48BC-41B1-9327-F54C703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87A-4B55-4048-ACC5-DACD206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F7E-BE32-4C9E-84E9-6B7F3AF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BE57E-1A0B-440C-99DC-2F4C41A96C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