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71247"/>
        <c:axId val="98483256"/>
      </c:barChart>
      <c:catAx>
        <c:axId val="29471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83256"/>
        <c:crosses val="autoZero"/>
        <c:auto val="1"/>
        <c:lblAlgn val="ctr"/>
        <c:lblOffset val="100"/>
        <c:noMultiLvlLbl val="0"/>
      </c:catAx>
      <c:valAx>
        <c:axId val="98483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71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0FD-62BC-44F8-8D69-D5EA3600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B80-AFE3-4803-8C00-BA2CB3F3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D75-27A6-49C7-BD18-84F9449B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9DE-81CE-4A5E-AFD8-E3479C23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932-A120-4FF5-8A37-22EF94A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502-D1D3-410C-B346-BF55A77E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E71-579F-4CC5-B17B-5A4B7DB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916-9D7B-4B14-821D-52825345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B08-60A4-4FCD-A7B6-954167BC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DBF-5A02-44D9-956F-B4762CD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909-9926-4D71-AA44-574331F4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15A-C6A9-4984-8BED-FE3BEDC2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055C7-0D74-480E-9BB4-A01C45F4B8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