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00661"/>
        <c:axId val="95865275"/>
      </c:barChart>
      <c:catAx>
        <c:axId val="945006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65275"/>
        <c:crosses val="autoZero"/>
        <c:auto val="1"/>
        <c:lblAlgn val="ctr"/>
        <c:lblOffset val="100"/>
        <c:noMultiLvlLbl val="0"/>
      </c:catAx>
      <c:valAx>
        <c:axId val="958652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006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5B9-E2ED-4545-BC80-7B671793D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DF8-5D59-4FD6-89F9-402E3752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732-6EEC-462E-A634-D2D6A805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3AF4-D3D2-4F32-A181-B1624095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A948-AA54-4EDE-AB74-E318E5E4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A0F5-8ECB-49A7-8566-E70A203D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1DE-1C4E-4BC5-8B91-B16136A0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1CF-D6A7-45E1-9FEF-D59A94E5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680-DEC4-42B2-AD83-03E07D3F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AB99-1F3A-4A6B-9DEF-82ACF20D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DFA9-BA8A-4238-9FA2-5DC23D26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58B-77FA-43C9-83CD-C9E76896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8ECDB-DACB-4AB1-A74B-CD3C55E904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