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896208"/>
        <c:axId val="20922760"/>
      </c:barChart>
      <c:catAx>
        <c:axId val="908962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22760"/>
        <c:crosses val="autoZero"/>
        <c:auto val="1"/>
        <c:lblAlgn val="ctr"/>
        <c:lblOffset val="100"/>
        <c:noMultiLvlLbl val="0"/>
      </c:catAx>
      <c:valAx>
        <c:axId val="209227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8962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0660-5AB1-45CF-99A0-213B2E165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D2DD-5F76-45D6-A529-66B73693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5C3B-6474-4C84-9BB7-FFB9B1A08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06FA-B0E6-4914-8DD8-4CC0BF48F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80EA-D503-4A49-A2CC-BC90ED12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4FD9-8024-4690-867F-9FC3B5F1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3C56-DE4B-4E5E-8C30-50612097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2294-E9AF-49C0-91E1-BE8E1CFD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2DD9-8F4E-4A50-AF65-8FBDD3CA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DF06-9E11-4F44-BB76-28F29C24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6CD8-260C-42FB-B661-472F26A3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044F-1A23-4068-B951-0FDDD7FE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CCC56-020F-4490-B457-D039773F73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