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89147"/>
        <c:axId val="63987135"/>
      </c:barChart>
      <c:catAx>
        <c:axId val="31189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87135"/>
        <c:crosses val="autoZero"/>
        <c:auto val="1"/>
        <c:lblAlgn val="ctr"/>
        <c:lblOffset val="100"/>
        <c:noMultiLvlLbl val="0"/>
      </c:catAx>
      <c:valAx>
        <c:axId val="639871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89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41D-9F9A-49A5-A89E-D03DEA86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F90F-B413-4786-9858-34A8A4E4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8F7-59D8-4055-95DF-AA9739FA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138-0364-493E-9F1A-C68F33A2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855-199A-47A0-8B89-840634CA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409-23F0-46BB-9A1B-1ECB88E6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B3F-1447-4E98-90D7-40221E5C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8CF-1E7F-4BBD-8FF1-F6B72B73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437-01F8-4EFE-A1F2-3D3654DF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98E-CC43-4110-81F5-75F6ACF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61E-D38B-451E-9951-0959E44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803D-CDA6-42A3-BB3B-D4C48F79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088FD-B49F-4D89-B2C5-E5350B3E01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