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738952"/>
        <c:axId val="93197596"/>
      </c:barChart>
      <c:catAx>
        <c:axId val="227389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97596"/>
        <c:crosses val="autoZero"/>
        <c:auto val="1"/>
        <c:lblAlgn val="ctr"/>
        <c:lblOffset val="100"/>
        <c:noMultiLvlLbl val="0"/>
      </c:catAx>
      <c:valAx>
        <c:axId val="931975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389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3352-483E-4264-B91E-E3103F7E2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1C27-D6A1-4777-825E-A7A8D618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C02D-5873-42F8-8D0A-6797A8E9E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F47B-16CB-4411-8735-07B4FFCB5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7E65-3F5B-4882-81F5-540DBA8E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CDDD-09C6-4CB2-92D0-B09CDADB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5334-AA28-4685-9F31-5DD2B5DA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B74E-4781-45DD-9446-032C8A84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5539-1019-419D-A336-2DE04BD8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C414-3D3D-45FA-A8F3-C8E88CE3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2839-4510-480A-8974-A1553BEE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C4B3-ED33-4578-A2FE-14529B2B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C0330-6F88-45CD-8B94-46B3AFA0F1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