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938606"/>
        <c:axId val="44489466"/>
      </c:barChart>
      <c:catAx>
        <c:axId val="71938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89466"/>
        <c:crosses val="autoZero"/>
        <c:auto val="1"/>
        <c:lblAlgn val="ctr"/>
        <c:lblOffset val="100"/>
        <c:noMultiLvlLbl val="0"/>
      </c:catAx>
      <c:valAx>
        <c:axId val="44489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38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FA8C-71DB-4F0D-AC28-64AC0F73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D93-1DB5-4FB3-BB2F-FEBC06C3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428-DC66-4E90-9C47-F8A0BC63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2EE-F47E-4094-B4B8-D64C153E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012-58E9-4A95-8AF6-13A50E3A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0BBD-3016-49B3-AA26-3020B4B4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67F-45C4-4959-9ED5-2DC83286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DD4-AAEF-45A6-8EF3-6A81A460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66E-28E3-44F7-9D88-F338BDCC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F3FD-5BDD-4AEB-B4F1-6EDD236C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C53-FA34-4FC1-8892-14631328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C1C-CACD-47A0-A638-EF663304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4389C-ABD1-43C7-80B1-DA59C216A2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