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67636"/>
        <c:axId val="25444477"/>
      </c:barChart>
      <c:catAx>
        <c:axId val="41067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44477"/>
        <c:crosses val="autoZero"/>
        <c:auto val="1"/>
        <c:lblAlgn val="ctr"/>
        <c:lblOffset val="100"/>
        <c:noMultiLvlLbl val="0"/>
      </c:catAx>
      <c:valAx>
        <c:axId val="25444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67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448-E862-4FD8-AD64-80907367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4C0-729C-43B6-9CEB-4154FEEE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EC9-5D8E-4DB2-9425-D8DB5DF0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B72-1D71-444D-9A61-5CDABD24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2B5-024B-48F9-A891-2D1357C6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46A-D304-46A7-80E6-7655F29C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672-6C3B-4D07-9A0B-22755099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47A-F20C-41E6-9467-39E13CE9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939-B727-4E98-8924-78DDA06B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642-1083-419F-8FAA-4C17C5F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B77-18BB-40BC-8399-6AB78753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1B5-D0EA-4406-85CC-ADDF3F37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471BC-1094-475D-8E18-8D962FEBF9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