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417"/>
        <c:axId val="40431164"/>
      </c:barChart>
      <c:catAx>
        <c:axId val="359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31164"/>
        <c:crosses val="autoZero"/>
        <c:auto val="1"/>
        <c:lblAlgn val="ctr"/>
        <c:lblOffset val="100"/>
        <c:noMultiLvlLbl val="0"/>
      </c:catAx>
      <c:valAx>
        <c:axId val="40431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F0F-8C96-4E0A-8C2D-DE48FD2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D6C-5FAB-4071-8663-CAEB5939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1CA-3C4D-45CD-B8CC-07778E40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545-41DF-4B9E-8888-C8F54108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338-494F-4CA6-8B4A-39B85628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205-C651-4558-A7BA-87A6844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0E9-3E4F-422D-8297-BE71B35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AC0-21C1-48F8-93BE-11018ACC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B04-70E8-4564-95D6-E639C7AD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84A-771B-4609-A68E-07C5ACA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FFD-1A98-43E0-952F-1905374C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F67-E7DA-464B-A755-3DC17AD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035A2-E7F0-4C37-ADEA-6F85EC88B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