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95470"/>
        <c:axId val="89835214"/>
      </c:barChart>
      <c:catAx>
        <c:axId val="565954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35214"/>
        <c:crosses val="autoZero"/>
        <c:auto val="1"/>
        <c:lblAlgn val="ctr"/>
        <c:lblOffset val="100"/>
        <c:noMultiLvlLbl val="0"/>
      </c:catAx>
      <c:valAx>
        <c:axId val="89835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954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570-29FF-4A7B-8DDC-029D254F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023-D414-423A-A0FE-9280E910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2A6-44E9-4A79-ABBF-687461C7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0E71-5C58-46B2-91D2-599D85B8A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735-A3AB-4997-933B-3800E9807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905A-0CDA-410C-8972-5274338F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C09-5845-409A-B172-3FD61843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67C2-EFC5-4398-A0A3-CBF3BE6A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3C42-FBDA-476C-89D4-E7577AA4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5F0D-204F-490D-9F3A-D2B679A6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5BA6-A1D7-4EF3-87F6-AC8C518E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F49-5E64-4CD1-BD1A-D3B3B0F8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2E2EA-32E6-4D59-92C2-F43068DDCE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