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51762"/>
        <c:axId val="1804736"/>
      </c:barChart>
      <c:catAx>
        <c:axId val="39251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736"/>
        <c:crosses val="autoZero"/>
        <c:auto val="1"/>
        <c:lblAlgn val="ctr"/>
        <c:lblOffset val="100"/>
        <c:noMultiLvlLbl val="0"/>
      </c:catAx>
      <c:valAx>
        <c:axId val="1804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51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071B-B79D-44DA-BCA3-45AF3763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25F-1330-4784-95F4-C120D934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853-9807-4326-B919-56A207C7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1235-40E2-4B2B-90F6-B424CC9B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49B-708C-452B-8487-3652FE3E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2C4-70C8-484E-A491-70B56C33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E06-C7E0-4229-AD6C-CEB92611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D28-58CE-4D84-A019-2ECED151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7C2-6E1A-48D6-9115-7600C989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E57-AB9A-45B2-99FD-4131BA6E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A42-FF3D-4360-9112-C80E8C8F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FCD-DC6B-4E40-B8CB-8A18C53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7E544-CE25-47AB-91BF-D9FB9635B2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