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57025"/>
        <c:axId val="62265432"/>
      </c:barChart>
      <c:catAx>
        <c:axId val="93157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65432"/>
        <c:crosses val="autoZero"/>
        <c:auto val="1"/>
        <c:lblAlgn val="ctr"/>
        <c:lblOffset val="100"/>
        <c:noMultiLvlLbl val="0"/>
      </c:catAx>
      <c:valAx>
        <c:axId val="62265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57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B71-46C7-486B-BB92-7BDCA61D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FBA-DF26-4038-858E-714FC917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4BA-C83A-467C-8F92-9786F3A6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00B-F8FB-4801-9FE6-1F6DE965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B926-80E9-40CA-913F-BD60516A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0BD-5F0B-4740-B50B-F0951D2A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84B-77F1-4571-B910-8BF67AC3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2B0-B4F3-4448-866E-18A7BD0A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85B-67A9-4E4E-A1A4-5566FB8E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9A2-1F00-4B0D-9114-DD2C2998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260-392E-4579-BB5E-EF450C17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866-9D0A-4730-A7C6-1B84DCDA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1D2C9-1D8E-41E9-9FD1-91F9E6E4E3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