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84133"/>
        <c:axId val="5708003"/>
      </c:barChart>
      <c:catAx>
        <c:axId val="73584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8003"/>
        <c:crosses val="autoZero"/>
        <c:auto val="1"/>
        <c:lblAlgn val="ctr"/>
        <c:lblOffset val="100"/>
        <c:noMultiLvlLbl val="0"/>
      </c:catAx>
      <c:valAx>
        <c:axId val="5708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84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D48-2F98-49D3-BAA8-2BB2E056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5CF-A6D5-46DE-BC9A-C23E362C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BAF-8E66-42FD-9E21-A4256656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061-2E88-4D3B-971B-879543CD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ADA-8336-4CF7-81AF-883B0ED7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923-7E23-4416-AF2B-D2F3A2FB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E3F-B2FF-4E4E-8EC8-10381446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4DF-2A8E-4BE1-BBC6-9FE7DEBB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5AE-B1C4-47DE-8C99-C34B7680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E4D-1269-4A01-BE09-3E3536D8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125-77DE-4DDC-AA85-E8594E1C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1C8-E00C-46F3-8025-0C06A048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53B29-3989-4302-9173-5C476F1391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