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24484"/>
        <c:axId val="70315707"/>
      </c:barChart>
      <c:catAx>
        <c:axId val="43824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5707"/>
        <c:crosses val="autoZero"/>
        <c:auto val="1"/>
        <c:lblAlgn val="ctr"/>
        <c:lblOffset val="100"/>
        <c:noMultiLvlLbl val="0"/>
      </c:catAx>
      <c:valAx>
        <c:axId val="70315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4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2A5-BD45-47C8-A64E-E124FB69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660-7B93-4430-A7D2-6F90233D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667-792E-4EAB-B630-AE833D4A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D32-5856-42BE-84F3-391EBB9A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631-8847-4562-98F1-AA375C7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FA7-42C6-4BA3-A508-DEC9BAA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9E3-041A-4627-B2BE-E4C5BD7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FF5-6F8A-4283-BA3E-09CE147C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5F7-F9B3-4088-91A6-C512695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EC0-18E1-4AAA-85A0-AD9DB41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E6B-9D9A-4DBC-9E8E-B29C285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196-8A53-4F1A-A4FB-FC2AA1A9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A899-364B-4B8E-89C4-45D27B1B1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