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70524"/>
        <c:axId val="18214137"/>
      </c:barChart>
      <c:catAx>
        <c:axId val="43270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14137"/>
        <c:crosses val="autoZero"/>
        <c:auto val="1"/>
        <c:lblAlgn val="ctr"/>
        <c:lblOffset val="100"/>
        <c:noMultiLvlLbl val="0"/>
      </c:catAx>
      <c:valAx>
        <c:axId val="18214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70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348-DC06-4129-A42B-91BA4A93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16D-871B-41EC-89F4-87BEC003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9E0-A8AA-4A55-8E6D-514E6FDB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B9C-748D-487B-B0C2-707143EA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48A-F9EE-4B90-B6DD-F93243EF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39C-75CE-4B0D-860F-21EFD406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FF4-514E-47B2-8D52-C7A1EF62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07F-2FD0-46E0-A71B-B3E5584D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EAD-96A4-4CDA-BC57-CCF110CA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E14-E30E-498F-9CC2-3F0AA0F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6DB-6C87-4331-AB2F-4632FB93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3A5-A5B2-4900-AC09-CE0A6F4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37E63-1992-4C7D-B6D9-C9879A6F12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