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17332"/>
        <c:axId val="22862682"/>
      </c:barChart>
      <c:catAx>
        <c:axId val="30517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62682"/>
        <c:crosses val="autoZero"/>
        <c:auto val="1"/>
        <c:lblAlgn val="ctr"/>
        <c:lblOffset val="100"/>
        <c:noMultiLvlLbl val="0"/>
      </c:catAx>
      <c:valAx>
        <c:axId val="22862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7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AFC-D525-498D-9745-1C93B316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3B9-BBCA-4521-BBF8-67B44150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AD9-EBF5-45B7-B7AC-3F20F2A9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153-B9AD-42BF-B44B-E3734E6F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503-7A5B-4890-A310-4FF5D69C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DF4-6F7F-4BA3-B233-DCEB407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510-09D9-4380-A54F-C1F4339B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C8F-875C-4F2F-BBD1-04A6AD2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509-2993-4A65-A4C4-0F7D9A3C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100-7E12-4EFD-BC48-CB22C07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FB8-5590-4ED8-B545-B51E501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08E-59B5-4FD6-8B9D-9086DC5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F9888-97D5-4F3D-961D-7209BEA1E7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