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263933"/>
        <c:axId val="62875655"/>
      </c:barChart>
      <c:catAx>
        <c:axId val="292639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75655"/>
        <c:crosses val="autoZero"/>
        <c:auto val="1"/>
        <c:lblAlgn val="ctr"/>
        <c:lblOffset val="100"/>
        <c:noMultiLvlLbl val="0"/>
      </c:catAx>
      <c:valAx>
        <c:axId val="628756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2639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8FC4-DCC7-4824-8A4D-DDF1C52FF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F380-7525-439D-9A6F-0850CB83A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7D12-7ABA-4816-9BE0-40E91D53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9937-3FB8-46D5-94E2-E95776E47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D1CC-2C2B-4CD5-B81A-2557279BA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6FF4-21FB-42C3-922D-D696532ED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BC5F-F15F-4CCD-874F-3C4B19C5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C8C9-B574-45C9-97B0-CDCF5B67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7751-68A3-47DE-AFC1-B691ABE9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8FC-4883-4E7D-805B-5FB5C78D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022-B335-4655-AA11-E62055C6B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EC19-45DE-4D31-9C99-22BF5526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E6C1C-5A04-4CC5-9115-BB25788B3C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