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21279"/>
        <c:axId val="69779341"/>
      </c:barChart>
      <c:catAx>
        <c:axId val="781212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9341"/>
        <c:crosses val="autoZero"/>
        <c:auto val="1"/>
        <c:lblAlgn val="ctr"/>
        <c:lblOffset val="100"/>
        <c:noMultiLvlLbl val="0"/>
      </c:catAx>
      <c:valAx>
        <c:axId val="69779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212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E7E-8A8F-475C-BB5C-FF94FC87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8BD-84E8-417E-B35D-377DF465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C3C-5F81-43BD-90AB-9C4D6763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D4E-6542-422D-9531-1332D58F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454-4EA7-4CBE-8264-A91B1429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575-6685-47FD-B8AF-F56008E5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85E-112F-4735-A5D5-64D02168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2D4-7F6E-42DB-A3D8-7A602157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743-AA9B-427B-8E91-C1290E92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B7E-2CE7-4CD7-85ED-18BCB501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7C3-5EBD-457A-AEF5-9BD6ABA7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AD9-145B-4250-8D70-D6FB790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45203-0433-4FAA-B4D5-ABBD910231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