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082179"/>
        <c:axId val="78977614"/>
      </c:barChart>
      <c:catAx>
        <c:axId val="100821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977614"/>
        <c:crosses val="autoZero"/>
        <c:auto val="1"/>
        <c:lblAlgn val="ctr"/>
        <c:lblOffset val="100"/>
        <c:noMultiLvlLbl val="0"/>
      </c:catAx>
      <c:valAx>
        <c:axId val="789776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0821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D549-5A67-4F1B-8EDC-DE4EE5993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3264-F344-42C5-A327-F62F48CE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8770-29AC-4DA7-B84E-2711BC026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C085-5E9F-405E-AFC7-9C476829B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314F-3361-438F-B3BF-1A12E27C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9C86-7064-480A-A847-CE69740E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25CF-7CCA-40E1-952C-F5A09553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5251-A18A-43BE-B377-3BA3E34A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3BBA-66E4-4FA2-B20D-D1905D48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7794-50E5-4AFC-B99A-11E09C86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64F7-CADB-47AF-A848-E3EF22E7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14C3-7501-49EB-A57F-13AD4DC9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EE9048-E37D-488A-ADAB-37CD94C662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