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32729"/>
        <c:axId val="32119241"/>
      </c:barChart>
      <c:catAx>
        <c:axId val="25532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19241"/>
        <c:crosses val="autoZero"/>
        <c:auto val="1"/>
        <c:lblAlgn val="ctr"/>
        <c:lblOffset val="100"/>
        <c:noMultiLvlLbl val="0"/>
      </c:catAx>
      <c:valAx>
        <c:axId val="32119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2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0F0-E645-4809-BFC2-4192613F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9AF-58B7-4E17-85AF-AA0AEC87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059-715B-4FD0-96D5-E5F99623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9C5-5428-42AF-B62F-1E91C672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B61-4186-4A09-9734-2131B58D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49A-1C3F-4E3C-8838-6BABF8A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7B7-1E39-4388-B7DD-97C2DE6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3EC-EA01-4149-9D10-1B18C859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543-16E9-46B0-8256-90F85FD3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9D0-2826-4363-BD75-C5DD081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0F-1B19-49A3-8878-70BA563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513-393F-43D6-A39C-6AFEE1F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101A5-0107-42B2-9B40-26AE70A09D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