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87494"/>
        <c:axId val="27503055"/>
      </c:barChart>
      <c:catAx>
        <c:axId val="78187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03055"/>
        <c:crosses val="autoZero"/>
        <c:auto val="1"/>
        <c:lblAlgn val="ctr"/>
        <c:lblOffset val="100"/>
        <c:noMultiLvlLbl val="0"/>
      </c:catAx>
      <c:valAx>
        <c:axId val="27503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87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C9C-F99E-4451-83EB-42EDDCE0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4D9-15B0-4090-9249-D8ED86C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040-3635-4F64-A21D-60C2E39A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E9D-5AFF-4D1E-8CAB-9A6E6B2A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8EA-3232-43F6-9055-F0854DB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E9B-28A0-49EF-8CE4-36FD19A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C31-1F1E-47A8-BB3F-6793058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8EE-2B9C-4E88-9E27-49C4DAF9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E34-FC3C-4CD0-BA3D-7D07A7A1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7E0-7432-4571-B9B4-F65A1CC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84C-4745-4FCD-A4D6-7DA70C0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7A8-BB5C-43A1-AAB4-301F2BC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46CB-9153-48E0-920E-299ED1FBEA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