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6822"/>
        <c:axId val="67562734"/>
      </c:barChart>
      <c:catAx>
        <c:axId val="3916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62734"/>
        <c:crosses val="autoZero"/>
        <c:auto val="1"/>
        <c:lblAlgn val="ctr"/>
        <c:lblOffset val="100"/>
        <c:noMultiLvlLbl val="0"/>
      </c:catAx>
      <c:valAx>
        <c:axId val="67562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6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1A9-FC78-476B-BA79-AC0818EC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72E-6E5E-45BE-AB1A-2C00084D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728-4030-4836-A0A0-5E03DBDD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32B-684A-4CA7-B84E-A3EDDC87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92D-2554-47DA-9ABD-986F30E5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56D-0D87-4094-8673-D54EF3D9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0AD-420D-4377-8F60-C9127BDE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2C5-0093-4CA9-BF68-87B89C6B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E62-E013-4F68-97FD-A945EE49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147-459B-4F63-8D70-28A2C6B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936-E2B5-44B4-A5F2-8EBAEA3E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3ED-D0CC-4D9D-A29F-327687A2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F260D-BE75-44E1-9AB9-5110F8A5D8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