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840037"/>
        <c:axId val="32913667"/>
      </c:barChart>
      <c:catAx>
        <c:axId val="188400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13667"/>
        <c:crosses val="autoZero"/>
        <c:auto val="1"/>
        <c:lblAlgn val="ctr"/>
        <c:lblOffset val="100"/>
        <c:noMultiLvlLbl val="0"/>
      </c:catAx>
      <c:valAx>
        <c:axId val="329136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400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A7B-0AB2-4A54-B3BD-230D0FBF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57E3-10C6-4D1F-A7E9-5F521957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6F5E-884C-4A74-A2D1-CEF8DBD0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8A4A-D106-4302-8881-F2A6F2D1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934-A8B4-48BC-A909-9F73CAB2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C5FF-0905-4354-B559-6BE5A179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6D2C-1B37-4AFE-A422-E952CDA6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0FE-CA79-42B3-81CE-1F2DCC10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72A-81F6-499C-89FF-4DC3F09B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0939-21CC-489C-B0CE-C2F564F8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DAC5-F392-4F38-83C5-5ABDCE2E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630A-AA0E-4EB6-945C-24C88CAB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4305C-3E3B-47BF-8343-590AA44BD3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