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264496"/>
        <c:axId val="95861476"/>
      </c:barChart>
      <c:catAx>
        <c:axId val="882644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61476"/>
        <c:crosses val="autoZero"/>
        <c:auto val="1"/>
        <c:lblAlgn val="ctr"/>
        <c:lblOffset val="100"/>
        <c:noMultiLvlLbl val="0"/>
      </c:catAx>
      <c:valAx>
        <c:axId val="958614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644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6D21-9F00-4450-A93B-4B7EE99E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E878-AB5C-4D8A-9F5D-8FAEE35E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10EB-110A-473B-9D33-26C37383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2CF3-11AA-4AE6-87CE-22A9914B2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0612-D60B-474D-9B86-5883E4C7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6BF3-9015-40FB-956D-EF2B04B5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D18-BA0E-4DAB-B2A4-D01B0C97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E87D-E0C9-459E-AFDB-A6B6534B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5936-2535-409E-A0A1-20A9668C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58A2-2481-4C1B-9C8A-2B6AD1E3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E6F8-21CD-4EB4-A54B-2BC55FDF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000E-A047-45DD-A737-04EF267F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6F1CD-0621-4389-B015-1740125ED2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