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60794"/>
        <c:axId val="70240542"/>
      </c:barChart>
      <c:catAx>
        <c:axId val="54660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40542"/>
        <c:crosses val="autoZero"/>
        <c:auto val="1"/>
        <c:lblAlgn val="ctr"/>
        <c:lblOffset val="100"/>
        <c:noMultiLvlLbl val="0"/>
      </c:catAx>
      <c:valAx>
        <c:axId val="70240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60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26C-67F5-4D5F-AE28-D71DE2AA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8C5-A602-46D2-B4A6-3B9EDCC7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27C8-7BC0-41BE-9BC5-856A0561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81C-CC81-4491-AB7B-D58B7D48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5F2-BB9A-442D-B016-B205E2FE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8DE-5758-4E07-8800-870B6FE1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5E6-D904-4308-B2E4-544D9C76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8BD-8851-4B4C-922B-B0BEB763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7C8-95BD-4FC2-9771-B19BCC3B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254-424E-4A21-974C-CD4B6D91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E8A-939D-47D9-B8A7-88E3DDC6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4FC-6AA5-48D5-8968-A8D23584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13B1E-5CBB-4729-8910-285F473E72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