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80403"/>
        <c:axId val="17121045"/>
      </c:barChart>
      <c:catAx>
        <c:axId val="72880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1045"/>
        <c:crosses val="autoZero"/>
        <c:auto val="1"/>
        <c:lblAlgn val="ctr"/>
        <c:lblOffset val="100"/>
        <c:noMultiLvlLbl val="0"/>
      </c:catAx>
      <c:valAx>
        <c:axId val="17121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0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AD9-A2F7-4DCB-8AA4-C02E6278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A06-CAFE-4076-B6F2-7F6748DF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523-3D16-4C78-80DA-E159A2E8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E56-06B4-48C1-A582-793EB5AF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910-9CE2-4C84-A10A-33C901B5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A07-A3E7-44F9-B041-957C9A6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87B-6146-4169-B41A-78616694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561-169E-4C1A-9B34-8DB6983B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F89-6537-42B9-A764-48D49EA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80E-E8FA-45CD-B1A0-73A2F0B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AC4-07F0-4F32-872A-1D19EDD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26B-93D2-4A3F-A5F9-1B30A66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5772E-D377-47E9-B128-50B5945A6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