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18718"/>
        <c:axId val="74622633"/>
      </c:barChart>
      <c:catAx>
        <c:axId val="97918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22633"/>
        <c:crosses val="autoZero"/>
        <c:auto val="1"/>
        <c:lblAlgn val="ctr"/>
        <c:lblOffset val="100"/>
        <c:noMultiLvlLbl val="0"/>
      </c:catAx>
      <c:valAx>
        <c:axId val="74622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18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683-D4C4-4CCE-ADCB-4E5063A5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461-5781-411D-88E9-E5BB81F6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8A6-B404-4B0B-93AB-E03619AB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9AB-C2C3-44EF-BF14-DC29518D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5AE-2403-4516-BECA-20302988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E1D-43E3-4C1B-BE64-6C6A88C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984-5E59-4A82-9D71-91CE0B46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ADF-E518-4BF3-BF7E-6F6C60C5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3E6-513B-49FC-95AE-92070B1F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5FF-CA3D-4411-B172-7CECE012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2221-B0C9-4E3D-B3A3-F18F46AC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7B1-98B4-42D7-BC6E-9F0C49E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35D3C-17A9-4D96-956D-9F72D4B13B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