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29625"/>
        <c:axId val="28570135"/>
      </c:barChart>
      <c:catAx>
        <c:axId val="54729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0135"/>
        <c:crosses val="autoZero"/>
        <c:auto val="1"/>
        <c:lblAlgn val="ctr"/>
        <c:lblOffset val="100"/>
        <c:noMultiLvlLbl val="0"/>
      </c:catAx>
      <c:valAx>
        <c:axId val="28570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9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093-661D-4500-80AE-3AD06F0B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184-97E5-460D-8EDF-069D617C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BB0-CFD0-4ACA-A9AC-EF72FB22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9A6-8D92-435E-B89D-4CB8CC59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B3C-6F1A-4004-80B8-7DED609A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DFE-6C1C-4FE7-A3B4-71D46BC9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37C-3D13-4D26-846C-B684BD67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63E-45C1-401F-B225-152C520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EAF-64F3-42D7-87A9-D09C0ACC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63-77F5-4B58-B607-08C2BB1A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69D-4B2C-450F-AA5C-BBA4887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333-6B75-495B-8C03-7A870AC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2069C-54B8-457C-BE2C-47456F0909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