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401440"/>
        <c:axId val="36302623"/>
      </c:barChart>
      <c:catAx>
        <c:axId val="59401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02623"/>
        <c:crosses val="autoZero"/>
        <c:auto val="1"/>
        <c:lblAlgn val="ctr"/>
        <c:lblOffset val="100"/>
        <c:noMultiLvlLbl val="0"/>
      </c:catAx>
      <c:valAx>
        <c:axId val="36302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401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0F8D-4D56-4F82-8345-896C4F28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A43-38E3-4A1E-BF77-516E1E72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268-F687-4E9D-ACF1-EA9673AE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64B7-3920-48F3-B3E8-5031D8F43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F13-F96A-49CB-B5FC-1CD86FA1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C27A-76B9-4285-AFD9-82A77A62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A16B-0B5B-44AE-BCEB-24F48166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34D-3B29-4AEC-8A5C-BAF4CE52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1D06-070C-480D-8E42-916F872A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B259-2984-42B3-847F-3B57BCD2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D91-B68B-47EB-A4EE-6B3CB7C4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CF82-5024-4C2C-B0BA-78605E43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B2F5B-49D3-41B9-8491-4D906B13FF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