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809670"/>
        <c:axId val="7738613"/>
      </c:barChart>
      <c:catAx>
        <c:axId val="128096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8613"/>
        <c:crosses val="autoZero"/>
        <c:auto val="1"/>
        <c:lblAlgn val="ctr"/>
        <c:lblOffset val="100"/>
        <c:noMultiLvlLbl val="0"/>
      </c:catAx>
      <c:valAx>
        <c:axId val="77386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096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7B0E-CACB-4DC7-A8F7-9BB4FFBE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A28E-968F-45DC-8B0E-7C5299C29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7A75-96EC-4C67-9E02-2CC6A6EF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3F2F-7B15-477A-A9EA-2AFD47B83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1521-5E03-4641-8868-BA517B759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7D2E-F513-4D69-A789-04A83538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69D6-534D-4181-ABD6-319B21B03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D64A-5619-4A32-8398-31A859552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5123-BC7D-4369-82D3-B924EDCF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2F02-3E15-4661-9A9B-DE6F9ED3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B33-DEE1-44B5-94AE-7D5B886C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0D6-3C64-4132-A77D-1FAC6154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FA984-5FB6-4A53-B04F-23F7A8BDB9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